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2.png" ContentType="image/png"/>
  <Override PartName="/ppt/media/image10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33F3-1DD8-4D84-956F-8A05DF3C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50C2-6B27-4A46-ADE8-65162C32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081-5A51-4F8B-A3CE-C145F3FE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69A-1119-4369-94E9-3F73C71E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4288-E949-4C55-9BF4-81621F7F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5E6-9D3F-44B1-BCA7-45B8B829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CF4-17CF-4C4D-9C99-0C4D325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E9DD-930A-4CBC-BE81-B6F6C720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DD77-5A4F-4F4F-A689-512C7767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A4A-BCC1-446E-A61A-780F1647F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C659-E1EE-4267-A28F-F3712304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1384-B0D9-4256-A8F5-7A21E5E6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8FF09-5E3E-4F82-AE9B-5DEFC66F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BDD05-87E2-4EFF-B912-9B306262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98F1-7BAF-4B78-8E2C-B45BA19B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560C-481F-4163-8FEE-0D7EB086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1F37-745E-4C43-A5A3-1E13EAE3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E44E-5309-4E9C-AE20-7B96E9CC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0383-AA04-49E1-B1DE-1BFD346B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801A-2A36-49D5-949F-1ABB1D22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5493-C6CD-4384-B711-D5C3C471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99B37-152E-4610-87AB-08951FFF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7189-89EF-4745-81CF-5192ED24B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2DCF-C78E-43F2-B97A-7857B66E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BDE2-4F83-4669-97CF-4F23B89CF1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883-F27F-4B69-8A8F-88CBAB4B84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millipore.com/images/large/882402EU-06.jpg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И МЕТОДЕ СТЕРИЛИЗ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84360" y="44370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1258920" y="112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Diagram 3" descr=""/>
          <p:cNvPicPr/>
          <p:nvPr/>
        </p:nvPicPr>
        <p:blipFill>
          <a:blip r:embed="rId1"/>
          <a:stretch/>
        </p:blipFill>
        <p:spPr>
          <a:xfrm>
            <a:off x="-195120" y="1395360"/>
            <a:ext cx="9345600" cy="49262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6875640" y="1700280"/>
            <a:ext cx="1728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"/>
          <p:cNvSpPr/>
          <p:nvPr/>
        </p:nvSpPr>
        <p:spPr>
          <a:xfrm>
            <a:off x="6516720" y="1484280"/>
            <a:ext cx="2627280" cy="71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топлотом и зрачењ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 бактерицида  (стерилизација гасовима и течностим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о уклањање микроорганизама (бактериолошка филтр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Diagram 4" descr=""/>
          <p:cNvPicPr/>
          <p:nvPr/>
        </p:nvPicPr>
        <p:blipFill>
          <a:blip r:embed="rId1"/>
          <a:stretch/>
        </p:blipFill>
        <p:spPr>
          <a:xfrm>
            <a:off x="-6480" y="712800"/>
            <a:ext cx="969984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Diagram 2" descr=""/>
          <p:cNvPicPr/>
          <p:nvPr/>
        </p:nvPicPr>
        <p:blipFill>
          <a:blip r:embed="rId1"/>
          <a:stretch/>
        </p:blipFill>
        <p:spPr>
          <a:xfrm>
            <a:off x="317520" y="974880"/>
            <a:ext cx="8362800" cy="52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Diagram 2" descr=""/>
          <p:cNvPicPr/>
          <p:nvPr/>
        </p:nvPicPr>
        <p:blipFill>
          <a:blip r:embed="rId1"/>
          <a:stretch/>
        </p:blipFill>
        <p:spPr>
          <a:xfrm>
            <a:off x="-66600" y="182520"/>
            <a:ext cx="934380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94920" y="1844280"/>
            <a:ext cx="82630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терилизација сувим врућим ваздухом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а)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160±5°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3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140 ±5°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Стерилизација засићеном воденом паром по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тиском (стерилизација у аутоклаву)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а)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мин на 120±1°С и надпритисак од 101.3к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6 мин на 135 ±1°С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дпритисак од 101.3кР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Стерилизација у струји водене паре или кључалој вод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мин на 98-100°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Стерилизација пламеном </a:t>
            </a: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се провлачи неколико пута кроз неосветљени део пламена, тако да се сваки пут задржи у пламену најмање 20 </a:t>
            </a:r>
            <a:r>
              <a:rPr b="1" lang="sr-Latn-R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Стерилизација филтрацијо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Асептични поступа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стерилизације (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V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Inceneration"/>
          <p:cNvPicPr/>
          <p:nvPr/>
        </p:nvPicPr>
        <p:blipFill>
          <a:blip r:embed="rId1"/>
          <a:stretch/>
        </p:blipFill>
        <p:spPr>
          <a:xfrm>
            <a:off x="6659640" y="2276640"/>
            <a:ext cx="221436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Стерилизација засићеном воденом паром под притиском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загревање у аутоклаву на 121 °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најмање 15 минута, за водене препарат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Стерилизација сувим врућим ваздухом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загревање у сувом стерилизатору на 160°</a:t>
            </a:r>
            <a:r>
              <a:rPr b="0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, најмање 2 с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Стерилизација јонизујућим зраче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Стерилизација гас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тиленокс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Филтрациј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актериолошки филтери промера по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2 – 0,45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.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ептични поступ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стерилизације (Ph. Jug. 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3"/>
          <p:cNvSpPr/>
          <p:nvPr/>
        </p:nvSpPr>
        <p:spPr>
          <a:xfrm>
            <a:off x="358920" y="1413000"/>
            <a:ext cx="87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стерилизације (British Pharmacopoeia 20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"/>
          <p:cNvSpPr/>
          <p:nvPr/>
        </p:nvSpPr>
        <p:spPr>
          <a:xfrm>
            <a:off x="468360" y="2060640"/>
            <a:ext cx="8064360" cy="34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топло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воденом паром под притиск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гас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зрачење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лтрац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24000" y="1916280"/>
            <a:ext cx="8424720" cy="51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уништи све врсте МО, укључујући и сп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ејни медијуми: пара (влажна топлота) или топао ваздух (сува топл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 и влажна топлота се разликују по механизаму дел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лота делује на систем ензима МО, денатурише их и деактивира (доминантно влажна топло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а топлота – изазива и оксидативне проце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термалне смрти – дуже при стерилизацији сувом него влажном топлотом на истој температу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температуре су временски ефикасније и мање оштећују материјал који се стерилиш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1056960"/>
            <a:ext cx="763272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плота као средство за стерил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79280" y="1989000"/>
            <a:ext cx="5688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а топлота се користи за стерилизацију и депирогенизацију (уништавање хемијске активности пирогена/ендотокс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се за стерилизацију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стабилних, неводених препарата, прашко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их инструмената, предмета, прибора, амбалаже од метала, стакла, порцелан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и уља (уљани растварачи, подлоге за масти и препарати припремљени са мастима и уљима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327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сувим врућим 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Hot air sterilization"/>
          <p:cNvPicPr/>
          <p:nvPr/>
        </p:nvPicPr>
        <p:blipFill>
          <a:blip r:embed="rId1"/>
          <a:stretch/>
        </p:blipFill>
        <p:spPr>
          <a:xfrm>
            <a:off x="5749920" y="2492280"/>
            <a:ext cx="33940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08000" y="2287080"/>
            <a:ext cx="8578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sr-R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18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12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90 - 12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45 - 6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пирогенизација:</a:t>
            </a:r>
            <a:r>
              <a:rPr b="0" lang="sr-CS" sz="28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60 - 9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	</a:t>
            </a:r>
            <a:r>
              <a:rPr b="0" lang="sr-RS" sz="20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30 - 60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ДЕЛОВАЊ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 до оксидационих процеса,                                 губитака влаге и денатурације                              протеина чиме се уништавају м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3200" spc="-1" strike="noStrike">
                <a:solidFill>
                  <a:srgbClr val="ff7c8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ва топл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Hot Air Oven"/>
          <p:cNvPicPr/>
          <p:nvPr/>
        </p:nvPicPr>
        <p:blipFill>
          <a:blip r:embed="rId1"/>
          <a:stretch/>
        </p:blipFill>
        <p:spPr>
          <a:xfrm>
            <a:off x="6113520" y="3357720"/>
            <a:ext cx="3030480" cy="35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07640" y="2349360"/>
            <a:ext cx="8605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и генерални захтев за микробиолошком чистоћом лековитих препарата (одсуство бактерија, вируса, плесни, гљивица, ендотоксина) због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и хемијске стабилности лековитог препара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егавања озбиљних нежељених ефеката код пацијена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тева да парентерални препарати, офталмолошки препарати, раствори за иригацију, препарати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 на кожу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веће отворене ран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планти, хируршки прибор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рају бити стерилни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3640" y="1267920"/>
            <a:ext cx="845820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И ПРЕПА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50920" y="213372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у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ом стерилизатору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 следеће фазе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ревање материјала на темп. до 100 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ндукцијом – провођењем топлоте са металних уложака, конвекцијом – преношењем топлоте помоћу ваздуха, зрачење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реко зидова) при чему се одстрањује вла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терилизације - мери се од момента када је постигнута темп. стерилизације и обухвата време одржавања и време сигурнос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сувим врућим 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50560" y="1989000"/>
            <a:ext cx="84358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 упутства за ра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но распоредити материјал да се не омета кретање ваздуха и да се не затворе отвори на перфорираним преград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пуњавати стерилизатор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и се тако да се у свим јединицама које се стерилишу постиже уједначена температура. Температура се обично мери термоосетљивим елементима који су убачени у одређене, најхладније делове коморе, заједно са додатним елемент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о је материјал који се стерилише (нпр. прашкови, уља) пунити у мање боце, макс. до 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сувим врућим ваз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68360" y="1267920"/>
            <a:ext cx="83390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јнери би требало да су исте величине и најбоље је одабрати или све уске и високе боце или ниске и широке судове (нпр. петри шоље), да би топлота могла да пенетрира брзо и у једном прав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 који се стерилише треба заштити увијањем у папир или фолију како би се сачувала стерилност након вађе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завршене стерилизације чека се док темп. не падне на 4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а не би дошло до пуц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сувим ваздухом на темп. изнад 220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есто се користи за стерилизацију и депирогенизацију стак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3"/>
          <p:cNvSpPr/>
          <p:nvPr/>
        </p:nvSpPr>
        <p:spPr>
          <a:xfrm>
            <a:off x="468360" y="1341360"/>
            <a:ext cx="8136000" cy="38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стерилизације сувим, врућим ваздух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а темпер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о време трај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 се применити за стерилизацију термолабилних препарата, водених раствора, прибора и амбалаже од гуме и пласт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94920" y="2205000"/>
            <a:ext cx="8061480" cy="433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ена пара као средство за стерилиз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468360" y="2205000"/>
            <a:ext cx="7775640" cy="42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 за уништавање микроорганизама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поседује захваљујући латентној топлоти испаравања и то 1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де до кључања даје 80 калорија, 1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ључале воде до паре даје 540 калориј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долази у контакт са хладнијом површином, кондензује се, изазивајући смањење волумена и повећење негативног притиска што захтева доток нове количине пар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 паре значајне за примену у стерилизацији: чистоћа, лака контрола температуре, добра пенетрација, лака дистрибуција и економска прихватљивост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24000" y="1052280"/>
            <a:ext cx="83628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ханизам деловања водене паре</a:t>
            </a:r>
            <a:r>
              <a:rPr b="0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штавање микроорганизама засновано на коагулацији протоплазме тј. протеина и инактивацији енз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засићеном воденом паром је метода којом се брзо уништавају микроорганизми, ефикаснија од стерилизације сувим врућим ваздух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илизација засићеном воденом паром под притиском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е з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е парентералне препарате (инјекције, интравенске инфузиј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е офталмолошке препара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бор и уређаје од метала, гуме, најл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руршки материја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ојни материјал и медицинске унифор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95280" y="213336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клав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може би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линдричан или правоугаони, хоризонтално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тикално постављен или тунелс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и аутокл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рметичка комо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 сигур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ометар (уређај за мерење притиск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тил за довод и одвод пар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мета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засићеном воденом паром под притиск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-360" y="3933360"/>
            <a:ext cx="85914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и притисак нема способност стерилизације већ повећава температуру па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95280" y="1197000"/>
            <a:ext cx="7272360" cy="91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у аутоклаву делује ка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илац топлоте (уколико се стерилишу течно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за грејање (уколико се стерилише посуђ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10000"/>
              </a:lnSpc>
              <a:spcBef>
                <a:spcPts val="1749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1007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ндард температуре, притиска и времена стери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39640" y="2352600"/>
          <a:ext cx="8425080" cy="4116600"/>
        </p:xfrm>
        <a:graphic>
          <a:graphicData uri="http://schemas.openxmlformats.org/drawingml/2006/table">
            <a:tbl>
              <a:tblPr/>
              <a:tblGrid>
                <a:gridCol w="2808360"/>
                <a:gridCol w="2808360"/>
                <a:gridCol w="2808360"/>
              </a:tblGrid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тисак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lb/in</a:t>
                      </a:r>
                      <a:r>
                        <a:rPr b="0" lang="en-A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пература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°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ум времена одржавања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68,95 kPa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-1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103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42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Pa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-1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13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9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Pa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6-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22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3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Pa</a:t>
                      </a:r>
                      <a:r>
                        <a:rPr b="0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-1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95280" y="1916280"/>
            <a:ext cx="842472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ивање ваздуха из коморе аутокл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ивање водене паре из ком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ађење (убрзано хлађење) и сушење материј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терилиза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загревањ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одржавања (минимално време за које се униште м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игур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зе процеса стерилизације у аутоклав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68360" y="1844640"/>
            <a:ext cx="7991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се дефинише као одсуство живих (вијабилних) микроорганизам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 је или стерилан или није, нема изражавања у степеним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се обезбеђује применом валидираног процеса стерилизациј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примене процеса стерилизације врши се провера у погледу ефеката на препарат и финалну амбалажу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примене одговарајућег процеса стерилизације неопходно је утврдити да ли је очувана ефикасност и интегритет препар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стерилизациј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сме утицати на особине и терапијску активност препарата односно материјала који се стерилиш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 препарата се мора потврдити одговарајућим испитивањем.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е стерилности не може да гарантује стерилност – она мора бити обезбеђена у току производње препара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629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4"/>
          <p:cNvSpPr/>
          <p:nvPr/>
        </p:nvSpPr>
        <p:spPr>
          <a:xfrm>
            <a:off x="611280" y="285264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КЛ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Content Placeholder 3" descr="Large_autoclaves"/>
          <p:cNvPicPr/>
          <p:nvPr/>
        </p:nvPicPr>
        <p:blipFill>
          <a:blip r:embed="rId1"/>
          <a:stretch/>
        </p:blipFill>
        <p:spPr>
          <a:xfrm>
            <a:off x="4067280" y="1628640"/>
            <a:ext cx="4037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након стерилизације у аутоклав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ити аутоклав да се охлади до температуре мање од 8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ити вентил за одвод паре да би се изједначио притисак у аутоклаву са спољашњ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токлав се отвара када се притисци изједначе и темпрература падне испод 5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684360" y="1916280"/>
            <a:ext cx="8076960" cy="46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потребно за уништавање познате популације микроорганизама у специфичној суспензији на одређеној температу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5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температуре смањује време термалне смр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обрну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 термалне см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203640" y="3284640"/>
            <a:ext cx="2520720" cy="57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 термалне деградације микроорганиза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N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̇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t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ни број микроорганиз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О после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цимално време распада (време потребно да се број микророрганизама смањи за 1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реме термалне смр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68000" y="1905120"/>
            <a:ext cx="8196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ак валидиран и обавезн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цесна контро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, хемијски и биолошки индикатор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а контрол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ерење Т и П термоелементима повезаним са електронским писачима и манометрима (микропроцесорим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а контрола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емијски индикатори – топљење или промена боје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а група они који показују да је постигнута Т стерилизације – бензоева киселина у затопљеној цевчици која се топи на 121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група – они који мењају боју у току одређеног временског интервала на одређеној Т (процена времена и Т стерилизац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оне смеш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е цевчице) – реакција у одређеном временском интервалу и на одређеној 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а процеса аутоклавирања –валидација/ мониторинг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8920" y="1755360"/>
            <a:ext cx="855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ндикатори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 Jug V; Ph Eur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сан број микроорганизама познате осетљивости на стерилизацију – обично споре, инокулисане у носач и постављене у тако запечаћено паковање које онемогућава контаминацију и оштећење, а дозвољава пролаз стерилишућег агенса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 стерилизације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 паковање се отвара, засејава на одговарајућу подлогу и инкубира да би се одредило да ли има преживелих М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катори се постављају на места која су најмање доступна стерилишућем агенс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ндикатори стерилизације 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авље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2 Ph. Jug 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поступак стерилизације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финисан биолошки индикато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1052280"/>
            <a:ext cx="799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трола процеса – аутоклавирања /валидација, монитор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"/>
          <p:cNvSpPr/>
          <p:nvPr/>
        </p:nvSpPr>
        <p:spPr>
          <a:xfrm>
            <a:off x="324000" y="1268280"/>
            <a:ext cx="828036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биолошког индика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размотрити вијабилност МО, услове чувања пре употребе и услове инкубације и култивисања након стерилизације – све мора бити стандардизовано за дати поступ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од биолошких индика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us subtilis var. niger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а топлота, гасна стерилизација етиленокси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us stearothermophilu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 п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illus pumuli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ачењ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ндикатор мора бити непатоген и лак за култивис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79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раче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1360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зрачењ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лектромагнетно (УВ и гама зрачењ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чно (електрони високе енергије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В зрачење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ласне дужине 240 – 280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цидни ефекат уз ограничену пенетрациј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деловања: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ње димера тимидина у ДНК који спречава размножавање микроорганизам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мена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терилизација ваздуха, радних површина, површина предмета и евентуално воде у танком слоју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а зрачења: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ак опсег таласних дужина је ефикасан у убијању МО (220 – 280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 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 = 265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ајефикаснија – најбоље се апсорбује од стране нуклеопроте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008920" y="-3636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MCj03035470000[1]"/>
          <p:cNvPicPr/>
          <p:nvPr/>
        </p:nvPicPr>
        <p:blipFill>
          <a:blip r:embed="rId1"/>
          <a:stretch/>
        </p:blipFill>
        <p:spPr>
          <a:xfrm>
            <a:off x="7380360" y="1413000"/>
            <a:ext cx="152388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ма зрачење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-енергетско зрачење, таласне дужине 1-10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m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звор су изотопи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обалт 60)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37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цезијум 13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деловањ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јонизујуће зрачење изазива јонизацију ћелијског садржаја, настајање слободних радикала и ексцитацију молекуле, што доводи до деградације ензима и ДНК - уништење ћел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: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изација фармацеутских, термолабилних материјала као што су витамини, ензими, минерали, моноклонска антитела, антибиотици, пептиди, плазма, ткиво, коштани трансплантати, медицински инструменти, пластични уређаји и делови уређаја, хируршке униформ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9280" y="1989000"/>
            <a:ext cx="85075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мањење деградације произ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исока продуктив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мпературна независ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коном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1" lang="sr-Latn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рачењ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3"/>
          <p:cNvSpPr/>
          <p:nvPr/>
        </p:nvSpPr>
        <p:spPr>
          <a:xfrm>
            <a:off x="395280" y="1197000"/>
            <a:ext cx="8137440" cy="63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роци контаминације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: микроорганизми, ендотоксини микроорганизама (пирогени), гљивице, плесни, вируси. Могућност присуства вируса хепатитиса и Хива у протеинским производима (фракције крви) узроковала је развој метода за њихово уништава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и контаминациј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зн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овин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ековите и помоћне супстанц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бала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стерилизације се мора спроводити по принципима Добре произвођачке прак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није могуће стерилисати препарат у финалној амбалажи примењује се асептични поступак израде и/или бактериолошка филтр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2421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тип стерилизације (убрзани електрони, β-честице) одвија се у акцелерат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алтернативу гама зраче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а моћ пенетрације у односу на гама зра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произвести x-зраке те је неопходна заштита околине и особљ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естично зрачење</a:t>
            </a:r>
            <a:br>
              <a:rPr sz="3600"/>
            </a:b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лектрони високе енерг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920" y="220464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етиленоксид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безбојан гас, тежи од ваздуха, мириса сличног етру, реактиван, са тенденцијом полимеризације, токсичан, запаљив, експлозиван (меша се са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 би се смањила могућност паљења и експлозиј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пластичних компоненти за медицинску терапију (катетери, системи за 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пликацију лекова, сонде итд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а амбалажа за лековите препарат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рна амбалаж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гасом (етиленоксидом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539640" y="1197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етиленокси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539640" y="1916280"/>
            <a:ext cx="7777440" cy="49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 стерилизације ЕТО врши се у стерилизаторима сличним аутоклаву, који могу да поднесу вакум или повише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иса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меш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20%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0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 стерилизационог гаса проверава се помоћу одговарајућег биолошког индикат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се одвија под следећим условим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-6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трација 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400-1299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жност најмање 3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h – 30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38360" y="1052640"/>
            <a:ext cx="7772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етиленоксид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та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обро продире у материјал али се и адсорбује 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теријал одакле се споро отклања (под нормалним условима око 14 дана, под контролисаним условима 2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68360" y="182880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к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страњивање вегетативних и спорогених облика микроорганизама и других честица филтрирањем кроз стерилне филтре (бактериолошке филтре) под асептичним усл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раствора термолабилних супстанци (антибиотици, стероиди, пептиди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великих количина те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препарата који се не могу стерилисати у финалној амбалаж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 га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755640" y="112536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РИЛИЗАЦИЈА ФИЛТР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" dur="1" fill="hold"/>
                                  <p:tgtEl>
                                    <p:spTgt spid="20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6840" y="1773000"/>
            <a:ext cx="8435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 деловањ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ивање м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ејање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 мо веће од величине пора филтр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рањивање м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дсорпциј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мо се електростатичким везама задржава у сплету порозних канала филт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ктериолошки филтри (величина пора 0,22 – 0,45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μм)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ровано стакло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п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целанске свећ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не плоч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мембрански филт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Times New Roman"/>
              </a:rPr>
              <a:t>Стерилизација филтр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ски филт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од деривата целулозе,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етра, флуоретилена, поливинил флуори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р пора 0,025-14 μ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шу се засићеном воденом паром под притиском или етиленоксид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ор полимерног филтера зависи од карактеристика раствора који треба стерилисат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достаци стерилизације филтрацијо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оћи до пуцања филтр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граничен капацитет филтрационог медијум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 и после филтрације филтер се мора испитати на интегритет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епарат се може контаминирати при пуњењу у финалну амбалажу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ти филтер се не може користити дуже од једног радног дана,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лтер не сме да реагује са препарато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981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</a:t>
            </a:r>
            <a:r>
              <a:rPr b="0" lang="sr-C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филтера према конфигурац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406728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Дискоидни филт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5940360" y="3068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Филтерске капсу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886200" y="595008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Филтерске свећ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0"/>
          <p:cNvPicPr/>
          <p:nvPr/>
        </p:nvPicPr>
        <p:blipFill>
          <a:blip r:embed="rId1"/>
          <a:stretch/>
        </p:blipFill>
        <p:spPr>
          <a:xfrm>
            <a:off x="6012000" y="3500280"/>
            <a:ext cx="2857320" cy="1943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882402EU-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3880" y="4343400"/>
            <a:ext cx="2286000" cy="2000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3"/>
          <p:cNvPicPr/>
          <p:nvPr/>
        </p:nvPicPr>
        <p:blipFill>
          <a:blip r:embed="rId4"/>
          <a:stretch/>
        </p:blipFill>
        <p:spPr>
          <a:xfrm>
            <a:off x="1523880" y="2133720"/>
            <a:ext cx="2286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рада лековитог препарата под условима који искључују могућност контаминациј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супстанце, прибор, посуђе, амбалажа се стерилише одговарајућом техником пре почетка асептичног поступ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 препарате који се не могу стерилисати у финалној амбалаж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успензије и емулзије за парентералну приме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ке колидне и уљане раствор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септични поступ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395280" y="1817280"/>
            <a:ext cx="7988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фармацеутско-технолошка операција којом се одстрањују или уништавају вегетативни и спорогени облици микроорганизама из лековитог препарата или са предмета. Обично је завршни корак у изради/производњи стерилних лековитих препара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гетативни облици: бактеријске ћелије способне да се умножавају, за разлику од спорогеног облика. Мање отпорне од спорогене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огени облици: неки сојеви бактерија формирају облик који је много отпорнији од вегетативне форме ћел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07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ептични поступак се изводи  у комори са ламинарним протоком ваздух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Laminar flow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истоћа ваздух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пена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 Eur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вољено макс. 3500 честица велич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5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м, ниједна од 5 μм и живих организама мање од 1 (из више узора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истоћа ваздуха обезбеђује се проласком кроз ХЕПА филтре и присуством УВ ламп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- </a:t>
            </a:r>
            <a:r>
              <a:rPr b="1" i="1" lang="sr-Latn-C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EP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gh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fiancy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te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-ефикасни филтер за честице из ваздуха уклања 99,97% честица величине 0,3 μм и већ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рзина ламинарног струјања (потисно слојевито, без турбуленције) ваздуха 0,2 – 0,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611280" y="112536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Хоризонтални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L</a:t>
            </a:r>
            <a:r>
              <a:rPr b="0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minar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A</a:t>
            </a:r>
            <a:r>
              <a:rPr b="0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irflow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C</a:t>
            </a:r>
            <a:r>
              <a:rPr b="0" i="1" lang="en-US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abi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Content Placeholder 3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4968720" cy="42404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224" name="Content Placeholder 3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4968720" cy="42404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225" name="AutoShape 6"/>
          <p:cNvSpPr/>
          <p:nvPr/>
        </p:nvSpPr>
        <p:spPr>
          <a:xfrm>
            <a:off x="4932360" y="1989000"/>
            <a:ext cx="1450800" cy="287640"/>
          </a:xfrm>
          <a:prstGeom prst="borderCallout1">
            <a:avLst>
              <a:gd name="adj1" fmla="val 18750"/>
              <a:gd name="adj2" fmla="val -8333"/>
              <a:gd name="adj3" fmla="val 80092"/>
              <a:gd name="adj4" fmla="val -2296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pa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>
            <a:off x="5651640" y="2924280"/>
            <a:ext cx="1584360" cy="320400"/>
          </a:xfrm>
          <a:prstGeom prst="borderCallout1">
            <a:avLst>
              <a:gd name="adj1" fmla="val 18750"/>
              <a:gd name="adj2" fmla="val -8333"/>
              <a:gd name="adj3" fmla="val -20000"/>
              <a:gd name="adj4" fmla="val -15945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ed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7"/>
          <p:cNvSpPr/>
          <p:nvPr/>
        </p:nvSpPr>
        <p:spPr>
          <a:xfrm>
            <a:off x="4859280" y="4653000"/>
            <a:ext cx="1612800" cy="288720"/>
          </a:xfrm>
          <a:prstGeom prst="borderCallout1">
            <a:avLst>
              <a:gd name="adj1" fmla="val 18750"/>
              <a:gd name="adj2" fmla="val -8333"/>
              <a:gd name="adj3" fmla="val 211111"/>
              <a:gd name="adj4" fmla="val -9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m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4067280" y="5661000"/>
            <a:ext cx="1693800" cy="352440"/>
          </a:xfrm>
          <a:prstGeom prst="borderCallout1">
            <a:avLst>
              <a:gd name="adj1" fmla="val 18750"/>
              <a:gd name="adj2" fmla="val -8333"/>
              <a:gd name="adj3" fmla="val 30680"/>
              <a:gd name="adj4" fmla="val -1265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1258920" y="141300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20000"/>
                </a:solidFill>
                <a:latin typeface="Times New Roman"/>
                <a:ea typeface="Times New Roman"/>
              </a:rPr>
              <a:t>Вертикална ламинарна ком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ontent Placeholder 3" descr="42 Figure-9-1"/>
          <p:cNvPicPr/>
          <p:nvPr/>
        </p:nvPicPr>
        <p:blipFill>
          <a:blip r:embed="rId1"/>
          <a:stretch/>
        </p:blipFill>
        <p:spPr>
          <a:xfrm>
            <a:off x="2035080" y="2287440"/>
            <a:ext cx="50738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1558800" y="19432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611280" y="1268280"/>
            <a:ext cx="907236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р контам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јално обучено особљ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рикција броја особ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а одећа (стерилна,одећа која не ода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-влакна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79280" y="191628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т стерилизације мери се 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ом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rility Assurance Level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сигурности стерилност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степен сигурности под којим процес који је у питању даје целину стерилних једин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ати процес представља се као вероватноћа постојања нестерилних јединица у тој цели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ставља вероватноћу да нема више од једног живог микроорганизма у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ерилисаних јединица финалног произ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ероватноћа проналажења нестерилне јединице мања од 1 у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кон обављене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83628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фикасност методе стери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256500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ивање да ли је производ који је стерилисан одређеном методом контаминиран микроорганизми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оди се на крају или током процеса стерилизације за контролу самог процеса (биолошки индикатори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узорак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иси од величине серије и начина стерилизациј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итивање стерилности у савременим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армакопеј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324000" y="1341360"/>
            <a:ext cx="8229600" cy="52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е испитивања стерилно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директна инокулациј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асејавањем препарата на прописану подлогу и инкубација под прописаним условима (нпр. 7 дана на 30 до 35 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ска филтрациј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илтрирање препарата кроз мембрански филтер, засејавање филтра на хранљиву подлогу и инкубација под прописаним усл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 индикато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 када је могуће предност дати методи мембранске филтр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и – супстанце које изазивају “пирогену реакцију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дог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зогени (метаболички производи мо - ендотокси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а реак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- висока температура, миграција лимфоцита, ослобађање хистамина, промена пермеабилности крвних судова, агрегација тромбоцита, шок и смр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питивање присуства пирогена у препара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557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вајуће околности за елиминацију пирогена из препарата тичу се њихових особ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стаби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солуби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реагују на бактерициде који су најчешће у прим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испарљи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суства пирогених материја у препарату може се вршити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vo</a:t>
            </a:r>
            <a:r>
              <a:rPr b="0" i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</a:t>
            </a:r>
            <a:r>
              <a:rPr b="0" i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ro</a:t>
            </a:r>
            <a:r>
              <a:rPr b="0" i="1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ови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ирогени тест на кунићима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g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2000, </a:t>
            </a:r>
            <a:r>
              <a:rPr b="0" lang="fr-F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 1997, Ph. Jug IV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се изводи на 3 кунића и заснива се на праћењу промене телесне температуре. Животињама се пре почетка експеримента измери телесна температура, затим се у вену уха ињицира испитивани препарат и прати да ли долази до пораста температур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: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сасвим поуздан и скуп ј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826920" y="1341360"/>
            <a:ext cx="7561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 СТЕРИЛИЗ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иминација или уништавање свих облика микроорганизама, вируса, гљивица или плесни у/на препарату или прибору, посуђу, уређајима, радним површинама и у ваздух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94920" y="1628280"/>
            <a:ext cx="8497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ulus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bocyte 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sate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AL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ређивање присуства ендотоксина у препара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2858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екстракт крвних ћелија – амебоцита морског рачић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ulus polyphem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2858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кт амебоцита 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жи ензиме – протеински систем који коагулише у присуству ендотокс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8920" indent="-285840">
              <a:lnSpc>
                <a:spcPct val="11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суство ендотоксина у препарату доводи до реакције коагулације протеина (гелирање, замућење или  таложење) односно стварања лимулус лизат гел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Horseshoe crab"/>
          <p:cNvPicPr/>
          <p:nvPr/>
        </p:nvPicPr>
        <p:blipFill>
          <a:blip r:embed="rId1"/>
          <a:stretch/>
        </p:blipFill>
        <p:spPr>
          <a:xfrm>
            <a:off x="6443640" y="0"/>
            <a:ext cx="251604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250560" y="1268280"/>
            <a:ext cx="8713800" cy="52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L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ативно/квантитативан тест – присуство ендотоксина се одређује визуелно, формирањем лимулус лизат гела, а концентрација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урбидиметријски или спектрофотометриј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ућење је сразмерно концентрацији присутног ендотокс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тљив – детектује се мала количина ендотоксина (&lt;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ндотоксина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и и јефтин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н за испитивање у току производ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557280" y="262404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броја преживелих клица (начин опадањ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преживелих клица опада геометријском прогресијом у једнаким временским интервал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8200" y="11250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АЦИЈА ПРОЦЕСА СТЕРИ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080" y="1844640"/>
            <a:ext cx="8642160" cy="48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уништавања микроорганизама пропорционална је њиховој концентрацији тј. броју у јединици време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 2,303/t x log N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брз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 у 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икроорганизама на почетку стерилиз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икроорганизама после стерилизације у вре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5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ИДАЦИЈА ПРОЦЕСА СТЕРИЛИЗ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50560" y="1557000"/>
            <a:ext cx="8713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стерилности = ИФ / средња вредност броја присутних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роорганизам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 инактивације (ИФ) - % уништених 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кроорганизам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кспериментална вреднос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09T09:07:24Z</dcterms:modified>
  <cp:revision>238</cp:revision>
  <dc:subject/>
  <dc:title>Slide 1</dc:title>
</cp:coreProperties>
</file>